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8.png" ContentType="image/png"/>
  <Override PartName="/ppt/media/image6.pct" ContentType="image/x-pict"/>
  <Override PartName="/ppt/media/image9.png" ContentType="image/png"/>
  <Override PartName="/ppt/media/image7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062F-B11B-4E61-BEDE-E19BD19D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D00F-E53D-4CEC-BF60-9F5B6CE8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67D8-9B49-4861-9E46-AD0B41FA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9DF5-4AD4-4F3F-9666-D66EC178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265D-5711-41F6-A23D-7E0A0EAD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F983-D096-429F-9218-5C977566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8EB3-76CA-4C5A-A165-9ED29CCF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883F-34A2-481A-95F0-E5E1D148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102D-6313-48B7-A0DB-3462A4D4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E02E-B237-475B-A7EF-A3FB91A8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060C-60DE-447B-8827-D4C72E09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A52C-347D-442C-920D-CE5EF1C8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3493-310A-42F0-AD44-64277316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0614-176F-4251-85CC-C2262DBF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5A33-AB58-4FB2-B862-9B965E6B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B7E0-EE2E-4B8D-98C7-F17EE710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FE35-30B8-40DB-B28F-F09D15F7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DFFA-D31F-4C35-98CE-8A76CBED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6C3D-E2C8-42E9-ADAC-183D03CD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27D8-7873-4F7F-81C9-AECEBAC3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BC0C-CC15-461C-A1AC-CFF46F1D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8000-EEF9-4248-A379-3E424B88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8989-82A4-4481-BA01-F1891190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CA39-9ECB-42C9-80DA-0D6C77D5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DF48-29B2-4017-B7EC-83B918A17A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ABAF-5028-4035-A674-085EB2833D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6781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Effects of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iteral Phrase Repetition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n Listener Preference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 Popular Music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A Pilot Stud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by Trevor de Clercq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TH560 Cognition Semina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April 24th, 2008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roduction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ico-Theoretical 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Form in Popular Music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vach (2005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mony as main basis for sectional different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monic stasis of many styles (rap, metal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iculty in applying classical termi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hrase identification based on harmonic fa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cussion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as c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Among biased subject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gh repetition caused an overall decrease in preference rat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nsistent with Berlyne’s theory, given correlation between preference and complex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oblem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small sample p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ssible to determine whether effect is purely due to experimenter bias or also from heightened perce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cussion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biased c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Among unbiased subject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o significant relationship between complexity/preference ratings and repetition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cussion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biased c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Among unbiased subject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o significant relationship between complexity/preference ratings and repetition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otentially, other factors swamped preference rat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cussion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biased c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Among unbiased subject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o significant relationship between complexity/preference ratings and repetition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otentially, other factors swamped preference rat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ng-to-song inte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cussion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biased c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Among unbiased subject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o significant relationship between complexity/preference ratings and repetition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otentially, other factors swamped preference rat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ng-to-song inte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se / chorus inte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cussion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biased c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Among unbiased subject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o significant relationship between complexity/preference ratings and repetition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otentially, other factors swamped preference rat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ng-to-song inte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se / chorus inte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ximity of chorus to end of excer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cussion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biased c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Among unbiased subject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o significant relationship between complexity/preference ratings and repetition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otentially, other factors swamped preference rat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ng-to-song inte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se / chorus inte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ximity of chorus to end of excer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etition in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cussion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biased c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Among unbiased subject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o significant relationship between complexity/preference ratings and repetition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otentially, other factors swamped preference rat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ng-to-song inte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se / chorus inte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ximity of chorus to end of excer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etition in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breviated length of excerp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uture Research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mental Desig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More direct comparis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uture Research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mental Desig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More direct comparis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cusing listener’s atten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roduction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oad Ques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How can Music Cognition help us better understand form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uture Research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mental Desig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More direct comparis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cusing listener’s atten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rced-choice situ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/without weigh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uture Research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mental Desig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More direct comparis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cusing listener’s atten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rced-choice situ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/without weigh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Different stimuli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uture Research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mental Desig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More direct comparis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cusing listener’s atten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rced-choice situ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/without weigh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Different stimuli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sing entire range of “complexity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ing non-popular mus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uture Research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mental Desig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More direct comparis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cusing listener’s atten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rced-choice situ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/without weigh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Different stimuli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sing entire range of “complexity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ing non-popular mus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ifferent edi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roduction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oad Ques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How can Music Cognition help us better understand form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hy do compositions take on any given form over another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roduction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oad Ques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How can Music Cognition help us better understand form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hy do compositions take on any given form over another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hat effect do changes in the form have on the listener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or Research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s of Structural Rearran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Gotlieb &amp; Konečni (1985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or Research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s of Structural Rearran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Gotlieb &amp; Konečni (1985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J.S. Bach's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Goldberg Vari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iginal ordering of variations vs. random 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or Research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s of Structural Rearran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Gotlieb &amp; Konečni (1985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J.S. Bach's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Goldberg Vari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iginal ordering of variations vs. random 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ed on 15 categor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mple/complex, ugly/beautiful, emotional/unemotional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or Research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s of Structural Rearran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Gotlieb &amp; Konečni (1985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J.S. Bach's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Goldberg Vari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iginal ordering of variations vs. random 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ed on 15 categor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mple/complex, ugly/beautiful, emotional/unemotional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verall, no significant eff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pt original order "warmer" than random 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or Research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s of Structural Rearran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Gotlieb &amp; Konečni (1985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J.S. Bach's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Goldberg Vari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iginal ordering of variations vs. random 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ed on 15 categ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mple/complex, ugly/beautiful, emotional/unemotional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verall, no significant eff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pt original order "warmer" than random 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Batt's response (1987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or Research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fects of Structural Rearrangement @ Section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Karno &amp; Konečni (1992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roduction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ico-Theoretical 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Issue of "Form" in Music The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or Research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fects of Structural Rearrangement @ Section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Karno &amp; Konečni (1992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zart, Symphony in G Minor, K. 550, 1st mvm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iginal and 4 altered versions (by thematic are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or Research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fects of Structural Rearrangement @ Section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Karno &amp; Konečni (1992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zart, Symphony in G Minor, K. 550, 1st mvm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iginal and 4 altered versions (by thematic are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ed on pleasingness, desire to own, interesting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or Research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fects of Structural Rearrangement @ Section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Karno &amp; Konečni (1992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zart, Symphony in G Minor, K. 550, 1st mvm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iginal and 4 altered versions (by thematic are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ed on pleasingness, desire to own, interesting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o significant effects between original &amp; altered ver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or Research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fects of Structural Rearrangement @ Section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Karno &amp; Konečni (1992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zart, Symphony in G Minor, K. 550, 1st mvm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iginal and 4 altered versions (by thematic are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ed on pleasingness, desire to own, interesting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o significant effects between original &amp; altered ver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trong primacy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tigue effect, order eff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or Research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fects of Structural Rearrangement @ Phras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Tillman &amp; Bigand (1996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or Research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fects of Structural Rearrangement @ Phras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Tillman &amp; Bigand (1996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ach "Gigue," Mozart Sonata, Schoenberg "Gigue"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or Research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fects of Structural Rearrangement @ Phras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Tillman &amp; Bigand (1996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ach "Gigue," Mozart Sonata, Schoenberg "Gigue"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-second "chunks" ~ 4-bar phr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ward vs. backward ord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or Research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fects of Structural Rearrangement @ Phras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Tillman &amp; Bigand (1996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ach "Gigue," Mozart Sonata, Schoenberg "Gigue"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-second "chunks" ~ 4-bar phr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ward vs. backward ord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ings on 27 scales of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or Research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fects of Structural Rearrangement @ Phras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Tillman &amp; Bigand (1996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ach "Gigue," Mozart Sonata, Schoenberg "Gigue"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-second "chunks" ~ 4-bar phr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ward vs. backward ord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ings on 27 scales of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o significant effects of structural rearrangement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piece had a consistent expressivity pro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or Research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fects of Other Structural Alt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Tan &amp; Spackman (2005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roduction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ico-Theoretical 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Issue of "Form" in Music The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onds (1991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ormation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a work compares to an abstract, ideal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or Research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fects of Other Structural Alt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Tan &amp; Spackman (2005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5 stimuli: classical piano solos ~ 1-min long ea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 intact, 5 repeated, 5 patch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or Research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fects of Other Structural Alt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Tan &amp; Spackman (2005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5 stimuli: classical piano solos ~ 1-min long ea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 intact, 5 repeated, 5 patch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ings made on the "unity" of each pie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jects described aspects contributing to 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or Research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fects of Other Structural Alt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Tan &amp; Spackman (2005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5 stimuli: classical piano solos ~ 1-min long ea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 intact, 5 repeated, 5 patch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ings made on the "unity" of each pie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jects described aspects contributing to 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nity ratings of patchworks significantly lower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or Research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fects of Other Structural Alt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Tan &amp; Spackman (2005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5 stimuli: classical piano solos ~ 1-min long ea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 intact, 5 repeated, 5 patch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ings made on the "unity" of each pie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jects described aspects contributing to 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nity ratings of patchworks significantly lower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nity ratings of repeated compositions were only slightly higher than the intact ver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or Research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fects of Repeated Exposure to Structural Alt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Tan, Spackman, &amp; Peaslee (2006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o unity ratings change with repeated exposur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or Research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fects of Repeated Exposure to Structural Alt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Tan, Spackman, &amp; Peaslee (2006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0 classical piano solos (5 intact, 5 patchwork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or Research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fects of Repeated Exposure to Structural Alt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Tan, Spackman, &amp; Peaslee (2006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0 classical piano solos (5 intact, 5 patchwork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 hearings each (2/da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ed on preference and 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or Research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fects of Repeated Exposure to Structural Alt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Tan, Spackman, &amp; Peaslee (2006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0 classical piano solos (5 intact, 5 patchwork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 hearings each (2/da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ed on preference and 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sults: preference &amp; unity rating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d overall for patchwork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d overall for intact compos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y hearing #4, ratings of patchworks exceeded inta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esthetic Theory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ference versus complex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Berlyne (1971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wo-Factor Arousal Theo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esthetic Theory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ference versus complex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Berlyne (1971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wo-Factor Arousal Theo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esthetic preference is associated with moderate arous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roduction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ico-Theoretical 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Issue of "Form" in Music The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onds (1991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ormation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a work compares to an abstract, ideal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a work is the result of its constituent pa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esthetic Theory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ference versus complex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Berlyne (1971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wo-Factor Arousal Theo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esthetic preference is associated with moderate arous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ovelty, complexity, etc. increase arous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esthetic Theory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ference versus complex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Berlyne (1971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wo-Factor Arousal Theo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esthetic preference is associated with moderate arous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ovelty, complexity, etc. increase arous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eference levels decrease as complexity moves toward relatively high or low valu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timal complexity = highest preference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esthetic Theory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ference versus complex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Berlyne's inverted-U relationship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362320" y="2514600"/>
            <a:ext cx="4059000" cy="31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esthetic Theory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eated exposure's effect on preference vs. complex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Berlyne (1971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peated exposure reduces arousal by decreasing novel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esthetic Theory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eated exposure's effect on preference vs. complex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Berlyne (1971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peated exposure reduces arousal by decreasing novel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erly complex stimuli move towards moderate arou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ference ratings will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esthetic Theory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eated exposure's effect on preference vs. complex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Berlyne (1971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peated exposure reduces arousal by decreasing novel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erly complex stimuli move towards moderate arou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ference ratings will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timally complex stimuli will no longer engender moderate arou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ference ratings will de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esthetic Theory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eated exposure's effect on preference vs. complex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Berlyne's inverted-U relationship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362320" y="2514600"/>
            <a:ext cx="4059000" cy="31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ory &amp; Research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tructural rearrangements show little effect on listeners’ rating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ory &amp; Research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tructural rearrangements show little effect on listeners’ rating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Listeners respond to complex stimuli with decreased preferenc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ory &amp; Research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tructural rearrangements show little effect on listeners’ rating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Listeners respond to complex stimuli with decreased preferenc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Listeners’ preferences for complex stimuli increase with repeated exposur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roduction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ico-Theoretical 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Issue of "Form" in Music The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onds (1991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ormation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a work compares to an abstract, ideal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a work is the result of its constituent pa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"There is a disturbing absence of any theoretical basis of form that can reconcile the generative and conformational approaches in a convincing fashion.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ory &amp; Research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tructural rearrangements show little effect on listeners’ rating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Listeners respond to complex stimuli with decreased preferenc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Listeners’ preferences for complex stimuli increase with repeated exposur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Listeners’ preferences for non-complex stimuli decrease with repeated exposur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ory &amp; Research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Ques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What effect does repetition have on listeners’ preference rating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ory &amp; Research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Ques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What effect does repetition have on listeners’ preference rating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What relationship does repetition have to the complexity of the stimuli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ory &amp; Research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po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Phrase structures with high complexity ratings will show increased preference ratings with repeti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ory &amp; Research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po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Phrase structures with high complexity ratings will show increased preference ratings with repeti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Phrase structures with low complexity ratings will show decreased preference ratings with repeti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hod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Repeti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iteral and exact repeat of a phr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hod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Repeti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iteral and exact repeat of a phr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horuses as able to undergo repeti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hod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Repeti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iteral and exact repeat of a phr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horuses as able to undergo repeti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ossible confound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y factors undergo repetition throughout an entire s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rmony, texture, timbr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hod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icip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15 subjec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hod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icip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15 subjec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ix of musicians and non-musici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roduction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ico-Theoretical 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Issue of "Form" in Music The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onds (1991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ormation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a work compares to an abstract, ideal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a work is the result of its constituent pa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"There is a disturbing absence of any theoretical basis of form that can reconcile the generative and conformational approaches in a convincing fashion.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urnham (CHOWMT, 2002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hod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icip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15 subjec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ix of musicians and non-musici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1 &lt; Age &lt; 3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hod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icip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15 subjec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ix of musicians and non-musici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1 &lt; Age &lt; 3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amiliarity with design of stud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subjects famil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subjects unfamil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hod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imul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18 songs from popular music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hod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imul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18 songs from popular music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hosen on basis of ability of chorus to be repea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hod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imul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18 songs from popular music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hosen on basis of ability of chorus to be repea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ngle chorus length = 4 measur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7 seconds &lt; single chorus time &lt; 14 secon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hod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imul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18 songs from popular music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hosen on basis of ability of chorus to be repea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ngle chorus length = 4 measur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7 seconds &lt; single chorus time &lt; 14 secon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road variety of sty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y-Z, Avril Lavigne, Toto, Dixie Chick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968 &lt; Release date &lt; 200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hod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imul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re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3 versions of each so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hod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imul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re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3 versions of each so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ased on number of chorus present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x = no re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x = re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x = high re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hod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imul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re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3 versions of each so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ased on number of chorus present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x = no re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x = re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x = high re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ach stimulus = 5x the length of the chorus alo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x = A - A - CH - A -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x = A/2 - A - CH - CH - A - A/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x = A/2 - CH - CH - CH - CH - A/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hod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imul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Def Leppard, “Too Late For Love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H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Madonna, “Cherish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x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Liz Phair, “Never Said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x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tevie Wonder, “Too High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4x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09680" y="327672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2209680" y="426708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2209680" y="52578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2209680" y="23623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567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30"/>
                </p:tgtEl>
              </p:cMediaNode>
            </p:audio>
            <p:seq>
              <p:cTn id="7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6862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51878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0134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roduction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ico-Theoretical 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Form in Popular Music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hod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d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Multiple listening session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hod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d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Multiple listening session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ssion 1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ference and Complexity ratings for chorus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ales of 1-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hod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d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Multiple listening session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ssion 1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ference and Complexity ratings for chorus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ales of 1-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ssions 2, 3, 4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ference ratings for random selection of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l songs presented each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ders and versions of song randomized for each su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l subjects heard all versions of each s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hod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d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Web interfa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209680" y="2438280"/>
            <a:ext cx="4797720" cy="28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hod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d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Web interfa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os and c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09680" y="2438280"/>
            <a:ext cx="4797720" cy="28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ult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liminari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No significant session-to-session effect on preference rating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ult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ference vs. Complex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Comparison of preference and complexity rating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ssion 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horus-only sele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ult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ference vs. Complex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Comparison of preference and complexity rating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ssion 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horus-only sele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ignificant correlation betwee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eference and complex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 = 0.390, p &lt; 0.00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ult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ference vs. Complex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2057400" y="1905120"/>
          <a:ext cx="4952880" cy="406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905120"/>
                    <a:ext cx="495288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ult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ference vs. Complex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33520" y="2743200"/>
          <a:ext cx="3809880" cy="312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743200"/>
                    <a:ext cx="380988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4724280" y="2743200"/>
            <a:ext cx="3962520" cy="30988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86880" y="1905120"/>
            <a:ext cx="49600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Compared to Berlyne’s the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roduction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ico-Theoretical 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Form in Popular Music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vach (2005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mony as main basis for sectional different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ult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sed Hypothesi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Chorus selection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ll equal to or less complex than optimal complex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ult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sed Hypothesi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Chorus selection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ll equal to or less complex than optimal complex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Effect of repeti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crease novel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crease preference ratings over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ult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stigating Original Hypo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220840" y="1905120"/>
          <a:ext cx="486576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0840" y="1905120"/>
                    <a:ext cx="486576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ult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stigating Revised Hypo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981080" y="1828800"/>
          <a:ext cx="5029200" cy="412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5029200" cy="41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ult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stigating Revised Hypo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Within-subject effec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verall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gnificant (p &lt; 0.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ult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stigating Revised Hypo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Within-subject effec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verall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gnificant (p &lt; 0.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x vs. 2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significant (p = 0.53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ult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stigating Revised Hypo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Within-subject effec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verall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gnificant (p &lt; 0.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x vs. 2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significant (p = 0.53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x vs. 4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ginally not significant (p = 0.0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ult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stigating Revised Hypo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Within-subject effec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verall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gnificant (p &lt; 0.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x vs. 2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significant (p = 0.53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x vs. 4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ginally not significant (p = 0.0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x vs. 4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gnificant (p &lt; 0.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ult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stigating Revised Hypo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981080" y="1828800"/>
          <a:ext cx="5029200" cy="412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5029200" cy="41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ult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stigating Between-Subject Dif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181840" cy="41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roduction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ico-Theoretical 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Form in Popular Music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vach (2005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mony as main basis for sectional different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monic stasis of many styles (rap, metal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ult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ling for Experimenter B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imated marginal means &amp; significance values per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990720" y="2438280"/>
          <a:ext cx="7391160" cy="335268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  <a:gridCol w="1847520"/>
                <a:gridCol w="1847880"/>
              </a:tblGrid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ase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biase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x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x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x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 0.0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 0.00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0.78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ult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siting Original Hypothesis (sans bi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181840" cy="41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cussion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rlyne’s The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Preference correlated to complexit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ossibly due to limited complexity of stimul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cussion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rlyne’s The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Preference correlated to complexit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ossibly due to limited complexity of stimul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re choruses typically “simple” structures, relatively speaking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cussion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rlyne’s The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Preference correlated to complexit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ossibly due to limited complexity of stimul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re choruses typically “simple” structures, relatively speaking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ow does the complexity of the chorus relate to that of other parts of a song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cussion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rlyne’s The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Preference correlated to complexit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ossibly due to limited complexity of stimul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re choruses typically “simple” structures, relatively speaking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ow does the complexity of the chorus relate to that of other parts of a song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otential limitation of using popular music, where perhaps few structures are perceptually so complex as to decrease arous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cussion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as c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Among biased subject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gh repetition caused an overall decrease in preference rat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cussion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as c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Among biased subject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gh repetition caused an overall decrease in preference rat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nsistent with Berlyne’s theory, given correlation between preference and complex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cussion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as c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Among biased subject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gh repetition caused an overall decrease in preference rat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nsistent with Berlyne’s theory, given correlation between preference and complex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oblem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cussion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as c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Among biased subject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gh repetition caused an overall decrease in preference rat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nsistent with Berlyne’s theory, given correlation between preference and complex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oblem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small sample p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1:42:25Z</dcterms:created>
  <dc:creator>NSU</dc:creator>
  <dc:description/>
  <dc:language>en-US</dc:language>
  <cp:lastModifiedBy>NSU</cp:lastModifiedBy>
  <cp:lastPrinted>1904-01-01T00:00:00Z</cp:lastPrinted>
  <dcterms:modified xsi:type="dcterms:W3CDTF">2008-04-28T20:52:37Z</dcterms:modified>
  <cp:revision>241</cp:revision>
  <dc:subject/>
  <dc:title>Effects of Phrase Repetition on Listener Preferences</dc:title>
</cp:coreProperties>
</file>